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9EAA-8DC0-488E-B885-2116ED9E8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71840" y="685800"/>
            <a:ext cx="289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71840" y="2835360"/>
            <a:ext cx="289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CB05-0367-44FB-BE9C-16F4B582A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71840" y="685800"/>
            <a:ext cx="1412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655400" y="685800"/>
            <a:ext cx="1412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1840" y="2835360"/>
            <a:ext cx="1412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55400" y="2835360"/>
            <a:ext cx="1412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D7DC-63FA-4ED9-B555-87ADC1CF2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71840" y="685800"/>
            <a:ext cx="93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151040" y="685800"/>
            <a:ext cx="93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129880" y="685800"/>
            <a:ext cx="93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71840" y="2835360"/>
            <a:ext cx="93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7151040" y="2835360"/>
            <a:ext cx="93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129880" y="2835360"/>
            <a:ext cx="93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2829-E158-46D9-8BBC-A8AD88DD14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71840" y="68580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D834-2CB2-474E-884A-2C432706E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71840" y="68580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3D73-CD92-4539-A672-CFA3DBE69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71840" y="685800"/>
            <a:ext cx="141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655400" y="685800"/>
            <a:ext cx="141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E2A4-F771-468B-86FE-BC0B75A2C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9F12-D93A-44DD-AA87-ED924CD7C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7426800"/>
            <a:ext cx="518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464A-9354-441A-9322-8FDA8962F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71840" y="685800"/>
            <a:ext cx="1412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655400" y="685800"/>
            <a:ext cx="141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71840" y="2835360"/>
            <a:ext cx="1412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3CDC-BF4B-406F-8D25-CBA4531CC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71840" y="685800"/>
            <a:ext cx="141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55400" y="685800"/>
            <a:ext cx="1412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55400" y="2835360"/>
            <a:ext cx="1412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9396-EEB8-44CD-A015-49037DF00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71840" y="685800"/>
            <a:ext cx="1412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55400" y="685800"/>
            <a:ext cx="1412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71840" y="2835360"/>
            <a:ext cx="289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A99B-D569-4A22-8F07-33B52B030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6095880" y="4572000"/>
          <a:ext cx="297180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4572000"/>
                    <a:ext cx="29718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" name="fundo%20azul" descr=""/>
          <p:cNvPicPr/>
          <p:nvPr/>
        </p:nvPicPr>
        <p:blipFill>
          <a:blip r:embed="rId4"/>
          <a:stretch/>
        </p:blipFill>
        <p:spPr>
          <a:xfrm>
            <a:off x="380880" y="0"/>
            <a:ext cx="56390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171840" y="68580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  <a:p>
            <a:pPr lvl="1" marL="460440" indent="-17712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  <a:p>
            <a:pPr lvl="2" marL="708480" indent="-14148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  <a:p>
            <a:pPr lvl="3" marL="991800" indent="-141480">
              <a:spcBef>
                <a:spcPts val="799"/>
              </a:spcBef>
              <a:buClr>
                <a:srgbClr val="8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  <a:p>
            <a:pPr lvl="4" marL="1275480" indent="-141480">
              <a:spcBef>
                <a:spcPts val="799"/>
              </a:spcBef>
              <a:buClr>
                <a:srgbClr val="8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DC8C-9BDC-438B-B403-168493E2B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685440" y="68580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4567320" y="3424320"/>
          <a:ext cx="9360" cy="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67320" y="3424320"/>
                    <a:ext cx="93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657240"/>
            <a:ext cx="5029200" cy="24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3366ff"/>
                </a:solidFill>
                <a:latin typeface="Tahoma"/>
              </a:rPr>
              <a:t>¿Como Hacer</a:t>
            </a:r>
            <a:br>
              <a:rPr sz="5400"/>
            </a:br>
            <a:r>
              <a:rPr b="1" lang="pt-BR" sz="5400" spc="-1" strike="noStrike">
                <a:solidFill>
                  <a:srgbClr val="3366ff"/>
                </a:solidFill>
                <a:latin typeface="Tahoma"/>
              </a:rPr>
              <a:t>el Trabajo?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5880" y="457200"/>
            <a:ext cx="2819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 Narrow"/>
              </a:rPr>
              <a:t>Para Alcanzar Buenos Resultados Precisamos Seguir los Métodos de Cristo.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447920"/>
            <a:ext cx="5105520" cy="1828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ffff"/>
                </a:solidFill>
                <a:latin typeface="Tahoma"/>
              </a:rPr>
              <a:t>Parejas </a:t>
            </a:r>
            <a:br>
              <a:rPr sz="6000"/>
            </a:br>
            <a:r>
              <a:rPr b="1" i="1" lang="pt-BR" sz="6000" spc="-1" strike="noStrike">
                <a:solidFill>
                  <a:srgbClr val="ffffff"/>
                </a:solidFill>
                <a:latin typeface="Tahoma"/>
              </a:rPr>
              <a:t>Misioner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5639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Ayudando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donde sea necesario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 nuestro auxílio.</a:t>
            </a:r>
            <a:br>
              <a:rPr sz="3600"/>
            </a:br>
            <a:r>
              <a:rPr b="1" i="1" lang="pt-BR" sz="2400" spc="-1" strike="noStrike">
                <a:solidFill>
                  <a:srgbClr val="3333cc"/>
                </a:solidFill>
                <a:latin typeface="Tahoma"/>
              </a:rPr>
              <a:t>Servicio Cristiano 113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5880" y="228600"/>
            <a:ext cx="2819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 Narrow"/>
              </a:rPr>
              <a:t>Atender las personas en sus necesidades.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56390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mpatizad con ellos, orad con ellos, aprovechad las oportunidades para beneficiarlos, y siempre que sea posible, </a:t>
            </a:r>
            <a:r>
              <a:rPr b="1" lang="pt-BR" sz="3200" spc="-1" strike="noStrike" u="sng">
                <a:solidFill>
                  <a:srgbClr val="ff0000"/>
                </a:solidFill>
                <a:uFillTx/>
                <a:latin typeface="Tahoma"/>
              </a:rPr>
              <a:t>reunid a algunos de ellos y abrid la palabra de Dios delante de sus mentes en tinieblas</a:t>
            </a:r>
            <a:r>
              <a:rPr b="1" lang="pt-BR" sz="3200" spc="-1" strike="noStrike" u="sng">
                <a:solidFill>
                  <a:srgbClr val="3333cc"/>
                </a:solidFill>
                <a:uFillTx/>
                <a:latin typeface="Tahoma"/>
              </a:rPr>
              <a:t>. </a:t>
            </a:r>
            <a:br>
              <a:rPr sz="3200"/>
            </a:br>
            <a:br>
              <a:rPr sz="3200"/>
            </a:br>
            <a:r>
              <a:rPr b="1" i="1" lang="pt-BR" sz="2400" spc="-1" strike="noStrike">
                <a:solidFill>
                  <a:srgbClr val="3333cc"/>
                </a:solidFill>
                <a:latin typeface="Tahoma"/>
              </a:rPr>
              <a:t>Serviço Cristão 116.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43600" y="30456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00"/>
                </a:solidFill>
                <a:latin typeface="Arial Narrow"/>
              </a:rPr>
              <a:t>Las Parejas También Pueden Reunir a Algunos de ellos en Pequeños Grupos para: </a:t>
            </a:r>
            <a:endParaRPr b="1" lang="en-US" sz="2800" spc="-1" strike="noStrike">
              <a:solidFill>
                <a:srgbClr val="8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00"/>
                </a:solidFill>
                <a:latin typeface="Arial Narrow"/>
              </a:rPr>
              <a:t>Confraternizar </a:t>
            </a:r>
            <a:endParaRPr b="1" lang="en-US" sz="2800" spc="-1" strike="noStrike">
              <a:solidFill>
                <a:srgbClr val="8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00"/>
                </a:solidFill>
                <a:latin typeface="Arial Narrow"/>
              </a:rPr>
              <a:t>Testimoniar</a:t>
            </a:r>
            <a:endParaRPr b="1" lang="en-US" sz="2800" spc="-1" strike="noStrike">
              <a:solidFill>
                <a:srgbClr val="8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00"/>
                </a:solidFill>
                <a:latin typeface="Arial Narrow"/>
              </a:rPr>
              <a:t>Orar y</a:t>
            </a:r>
            <a:endParaRPr b="1" lang="en-US" sz="2800" spc="-1" strike="noStrike">
              <a:solidFill>
                <a:srgbClr val="8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cc00"/>
                </a:solidFill>
                <a:latin typeface="Arial Narrow"/>
              </a:rPr>
              <a:t>Estudiar la Bíblia</a:t>
            </a:r>
            <a:r>
              <a:rPr b="1" lang="pt-BR" sz="2800" spc="-1" strike="noStrike">
                <a:solidFill>
                  <a:srgbClr val="8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Llamó a los Doce, y los comenzó a enviar de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Dos en Dos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, dándoles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Poder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...”</a:t>
            </a:r>
            <a:br>
              <a:rPr sz="3600"/>
            </a:br>
            <a:r>
              <a:rPr b="1" lang="pt-BR" sz="2000" spc="-1" strike="noStrike">
                <a:solidFill>
                  <a:srgbClr val="3333cc"/>
                </a:solidFill>
                <a:latin typeface="Tahoma"/>
              </a:rPr>
              <a:t>Marcos 6:7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72200" y="380520"/>
            <a:ext cx="2743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El Trabajo en Parejas Fue Inventado por  Cristo.</a:t>
            </a:r>
            <a:endParaRPr b="1" lang="en-US" sz="24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Llamando a los Doce, Jesús les ordeno que fuesen de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Dos en Dos 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por las aldeas y Ciudades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a Predicar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72200" y="304920"/>
            <a:ext cx="2743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 Narrow"/>
              </a:rPr>
              <a:t>La Visión Divina de Como Deben Trabajar los Seguidores de Cristo.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1722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Arial Narrow"/>
              </a:rPr>
              <a:t>Deseado de todas las Gentes,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Ninguno fue enviado solo,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Hermano con Hermano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 y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Amigo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 al lado de su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Amigo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48520" y="533160"/>
            <a:ext cx="25905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 Narrow"/>
              </a:rPr>
              <a:t>Parejas  Formadas por Amigos.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9436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Arial Narrow"/>
              </a:rPr>
              <a:t>Deseado de Todas las Gentes,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5639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Así se podrian auxiliar y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animar mutuamente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, aconsejandose entre si y orando unos con otros,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la fuerza de uno supliendo la flaqueza del otro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72200" y="45684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 Narrow"/>
              </a:rPr>
              <a:t>Uno Apoya y  Fortalece al Otro.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61722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Arial Narrow"/>
              </a:rPr>
              <a:t>Deseado de Todas las Gentes,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5334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De la misma manera envio posteriormente a los setenta.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Era el desígnio del Salvador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 que los mensajeros del evangelio así se asociasen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48520" y="304920"/>
            <a:ext cx="2666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 Narrow"/>
              </a:rPr>
              <a:t>El el Plan de Dios para Alcanzar  a nuestros Parientes Amigos e Vecinos.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01992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Arial Narrow"/>
              </a:rPr>
              <a:t>Deseado de Todas las Gentes,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La obra Evangélica en nuestro días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tendría mucho mas éxito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 si ese ejemplo fuera seguido más estrictamente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19560" y="457200"/>
            <a:ext cx="297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 Narrow"/>
              </a:rPr>
              <a:t>Las Parejas Misioineras son el secreto del éxito en la Evangelización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1722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Arial Narrow"/>
              </a:rPr>
              <a:t>Deseado de Todas las Gentes,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5029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3366ff"/>
                </a:solidFill>
                <a:latin typeface="Tahoma"/>
              </a:rPr>
              <a:t>¿Que Hacer ?</a:t>
            </a:r>
            <a:endParaRPr b="0" lang="en-US" sz="5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477120" y="457200"/>
            <a:ext cx="2286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 Narrow"/>
              </a:rPr>
              <a:t>Como Realizar el Trabajo en Parejas Misioneras.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Visitad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 a aquellos que </a:t>
            </a:r>
            <a:r>
              <a:rPr b="1" lang="pt-BR" sz="3600" spc="-1" strike="noStrike">
                <a:solidFill>
                  <a:srgbClr val="ff0000"/>
                </a:solidFill>
                <a:latin typeface="Tahoma"/>
              </a:rPr>
              <a:t>viven cerca</a:t>
            </a: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...</a:t>
            </a:r>
            <a:br>
              <a:rPr sz="3600"/>
            </a:br>
            <a:r>
              <a:rPr b="1" lang="pt-BR" sz="3600" spc="-1" strike="noStrike">
                <a:solidFill>
                  <a:srgbClr val="3333cc"/>
                </a:solidFill>
                <a:latin typeface="Tahoma"/>
              </a:rPr>
              <a:t>Con Simpatia y Bondad procurad cautivarles el corazón, </a:t>
            </a:r>
            <a:br>
              <a:rPr sz="3600"/>
            </a:br>
            <a:r>
              <a:rPr b="1" i="1" lang="pt-BR" sz="2400" spc="-1" strike="noStrike">
                <a:solidFill>
                  <a:srgbClr val="3333cc"/>
                </a:solidFill>
                <a:latin typeface="Tahoma"/>
              </a:rPr>
              <a:t>Servicio Cristiano</a:t>
            </a:r>
            <a:r>
              <a:rPr b="1" lang="pt-BR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pt-BR" sz="2400" spc="-1" strike="noStrike">
                <a:solidFill>
                  <a:srgbClr val="3333cc"/>
                </a:solidFill>
                <a:latin typeface="Tahoma"/>
              </a:rPr>
              <a:t>115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5880" y="22860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 Narrow"/>
              </a:rPr>
              <a:t>Visitar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00"/>
                </a:solidFill>
                <a:latin typeface="Arial Narrow"/>
              </a:rPr>
              <a:t>Parientes,</a:t>
            </a:r>
            <a:endParaRPr b="1" lang="en-US" sz="2800" spc="-1" strike="noStrike">
              <a:solidFill>
                <a:srgbClr val="800000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00"/>
                </a:solidFill>
                <a:latin typeface="Arial Narrow"/>
              </a:rPr>
              <a:t>Vecinos,</a:t>
            </a:r>
            <a:endParaRPr b="1" lang="en-US" sz="2800" spc="-1" strike="noStrike">
              <a:solidFill>
                <a:srgbClr val="800000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00"/>
                </a:solidFill>
                <a:latin typeface="Arial Narrow"/>
              </a:rPr>
              <a:t>Amigos</a:t>
            </a:r>
            <a:endParaRPr b="1" lang="en-US" sz="2800" spc="-1" strike="noStrike">
              <a:solidFill>
                <a:srgbClr val="800000"/>
              </a:solidFill>
              <a:latin typeface="Arial Narrow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00"/>
                </a:solidFill>
                <a:latin typeface="Arial Narrow"/>
              </a:rPr>
              <a:t>Interesados</a:t>
            </a:r>
            <a:endParaRPr b="1" lang="en-US" sz="2800" spc="-1" strike="noStrike">
              <a:solidFill>
                <a:srgbClr val="800000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800000"/>
                </a:solidFill>
                <a:latin typeface="Arial Narrow"/>
              </a:rPr>
              <a:t>Conquistar la Amistad y la confianza.</a:t>
            </a:r>
            <a:endParaRPr b="1" lang="en-US" sz="32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8T17:32:56Z</dcterms:created>
  <dc:creator>(T) Osmar Reis (D) Ramildo Bezerra</dc:creator>
  <dc:description/>
  <dc:language>en-US</dc:language>
  <cp:lastModifiedBy>Ivan Samojluk</cp:lastModifiedBy>
  <dcterms:modified xsi:type="dcterms:W3CDTF">1999-08-05T00:27:18Z</dcterms:modified>
  <cp:revision>20</cp:revision>
  <dc:subject/>
  <dc:title>Slide sem título </dc:title>
</cp:coreProperties>
</file>